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8BA1-B9A2-4A5C-ABA1-00AEC5A7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CA9C-D1D0-49E5-BEB7-353C76A55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BB2A-241D-47D2-B658-070ADF757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543D-9B0A-4C37-A3B9-4D290DAD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4675-3EB1-4978-B976-FFFED78BC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7A83-FEF1-4C32-8AB0-34E2DA7AC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1FD2-5E4E-4F08-ABF9-094769CEE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A4DC-D0C7-41E2-929F-23FD8086F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3AEC-C00B-4889-84BA-469017FE5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8094-FD78-4DE7-A913-5F404D45E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C52E-4E6E-4B46-B637-BFFF4A9CB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6CD8-A49D-41F6-A874-999816191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9B2B-5C33-40EC-B197-4F6828587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C3C4-564C-46FF-BD05-8EE6E5765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AD94-01AD-4412-8E43-CA1417BF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91A0-2EBD-4334-919C-352615F27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1257-8C8B-43D8-B4F2-D9A04A02F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3CF9-2C1E-4B2B-9AFF-0704ECA7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4E0C-A239-4239-AE86-7DBBFE04D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332D-E5D4-4A49-8391-20F344C2C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B195-C4DD-4241-A103-C4DF79015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2597-9E12-4AF7-87BC-2C7348266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F9CF-F896-4530-B015-D156EE811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3CB1-1CC4-4E3B-97E8-0F64B4AFA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3CC0-85E7-4451-A7FF-D63C6146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2C45-BAD4-4DAD-9A64-F20D87E5B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2B26-BBA1-4D82-A4A8-DD1C20F01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8710-B2C5-4C00-A619-B9C5C4BEF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1F36-0707-484F-95F6-DBBCF7BA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we did that with the PPQ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A72B-7B5E-42DE-87A8-0596E08B1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F586-4B34-41B1-BF55-83C0E110C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2E34-428B-403E-BEC4-1F3C4DF5A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8EC2-3206-4AF6-93C8-5E9BB36FF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6365-066C-4FDC-8999-F291F033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64EC-C075-47C8-B068-D235D532E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DE3C-0BC5-4059-A314-05F55EB7C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13AC-64F3-45EC-B2B2-159652A0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6B29-9CDA-4A71-87C7-ED1A29BC2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EA05-8FC5-4D4D-88BC-499406685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F91C-C1F5-4890-86F0-75E6ACD6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37DE-8A46-4C0A-918F-47F9AF64D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0E27-1200-4EEF-AF11-45132E236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988D-26B1-44C2-8F50-32283EC4E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74CA-0DBB-4A7F-9998-C47EEC276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DC08-5817-4EAB-ABD2-80D9154F9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CB06-F628-4195-959A-2DB33D328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1935-0F03-43C4-9088-CDCEFA929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should solve one of these before the common questions are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8396-0295-4478-BE89-E4D41BB5C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0757-C19E-4A65-89B1-74FF8F747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BA94-29B8-433D-89B5-9EAD22B53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057C-47E2-4E35-A5D4-F1241310D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55C6-EA9B-4B75-AD99-355091F55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5ED8-D598-4543-9097-9940D4125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B553-83C8-4BB8-B613-9CD85E5C3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DEC1-5114-40FF-BC3B-DEC80BE8E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6B7F-940B-44D4-B704-E7DB277FC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5EE0-1DB9-4E89-9D06-439611BD2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018B-DDA1-4A42-BDA0-BEEEC323C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ACBD-BDEF-4198-A644-157DC8107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B3B7-AAA3-4E66-A8C7-A47BE000E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8B01-76F6-490F-BEDE-5D1A1A653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ome kids, algebra is the problem, not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5028-DAC8-43AE-9D28-1862F2783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olutions:  Choice 1:   0.1n ÷ 2  or  -n + 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2:  2n x 2;  4n;  4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3027-076B-47CD-BFDB-F8EB2A75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E5BD-9CF9-4E67-9DA9-04E99EB71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C649-8E89-4F51-822E-4201E6BAD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97F7-504F-482C-A490-5A5747545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36F1-63CB-4924-98C6-054D80DFD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FBF1-79C2-4C5E-A05F-B7EDA50AC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10A4-F061-48A0-8986-E92DAEF7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F4A3-0CDF-43B6-94AD-067A9757D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AD73-2BF7-47D6-935F-2F01A3D4F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5C7-70E0-4830-BD72-15E51E8BD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 that summarizes previous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0480-7075-43AA-9E6D-1FAF09BB6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201D-3A82-4459-B815-122C0A551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1748-C046-4629-89EB-91BF6ADA9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B99F-C750-4529-8E05-4D0F1E3C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47EC-8048-490D-AE8D-39332F10E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0442-B7B3-401D-B507-0479F1C4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A709-055F-4A52-86B3-DFC0ADA78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132B-F6C7-4EED-A5CF-C8E20D622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C4FA-FF3D-4C99-8917-A16DDE8EE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E55C-1D1A-4D43-BBBE-BC4982CD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E055-424B-4BEB-AA4B-BE4333053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B630-F5F3-4807-A13C-0E6029686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27CB-5EEA-4FC7-A3D6-5654015B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7093-709F-4218-BA50-441A9B019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15AD-8A23-4AEF-90A1-A5D4C310E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34C3-7559-44D1-9A2E-2F212CEA8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EC76-09FF-4074-8F9A-E293D361D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E163-9BAF-4889-AFEC-68B292F3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F411-928A-42D6-806F-992E16C07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3A31-5257-4037-9FE7-D56C7E0CB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0255-D743-4B94-9F24-7DBF71CC3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FDDE-0DA3-45A6-BA59-3BD08FBB4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just ask the open question and walk away– you ask probing questions, just like we used common questions for parallel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AF97-A8BE-4DA0-A031-880080F83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FE6F-DBE7-45AD-B14E-0D8A69104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m which big idea  (it’s BI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4B9B-3141-4EC4-89AF-AD2B9FACB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D8BB-2103-4543-9A55-5ADCE750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FA37-713A-4079-B97B-95BDADB0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4008-9239-4C37-83D4-14182CC88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hey see that open activities benefit the weak and the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5680-F997-4973-BB8C-BFF1351AC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8002-84EA-4112-A34A-5F35DE1B1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65EF-1F74-4632-B956-4928EC68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EBC5-97DF-48E9-9534-10702DCF6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2152-1160-47B8-99A8-48496C1E1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9602-656C-4014-A7E9-BAFBDF62C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43F3-AC5D-471E-8E81-4CE1859F0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6675-030A-468D-94F0-AB9628111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397B-0889-41E4-899E-4C6D09E80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FDFC-70E5-4CAF-B209-E080660D8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hem to know the difference between equations with single solutions and “identit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7424-F300-459F-B29B-4B1B1A9D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is might be tough for some participants. Remind them what the quadratic formul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763-4D7A-449B-AEC5-4CE9898D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C91-5473-4CF6-AEF9-E95401CB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A4C-683C-42FF-BCD7-7AD47805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E31-E4B4-4A91-A87F-EC01598D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EDB-A757-405C-A2EB-AFCF22FF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743-8E4D-4059-94C0-172CE581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59C-D3D0-4AE5-A805-26D324AB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E5B-041B-4EFF-8837-B1324C59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5A2-A828-4BF4-BEC9-493AD936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5B0-E65C-4516-9F61-3249CBB3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3EE-65AD-444E-9C33-2B0E9BAA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4B1-4C64-4151-978D-5C459AE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160B-3ADF-4AC3-88A1-1CC727F78A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049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Da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685800" y="838080"/>
            <a:ext cx="263700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572000" y="2897280"/>
            <a:ext cx="44449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63D8-4769-4A3B-92C9-9579B2AAD0B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oal for a lesson is created based on curriculum expectations, but filtered through the lens of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713F-02C0-4327-8851-F0D4D729A2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Picture 3.png"/>
          <p:cNvPicPr/>
          <p:nvPr/>
        </p:nvPicPr>
        <p:blipFill>
          <a:blip r:embed="rId1"/>
          <a:stretch/>
        </p:blipFill>
        <p:spPr>
          <a:xfrm>
            <a:off x="457200" y="1066680"/>
            <a:ext cx="1181160" cy="19306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sides the solutions to    a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bx + c = 0, what else does the quadratic formula tell you (BI 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Picture 1.png"/>
          <p:cNvPicPr/>
          <p:nvPr/>
        </p:nvPicPr>
        <p:blipFill>
          <a:blip r:embed="rId2"/>
          <a:stretch/>
        </p:blipFill>
        <p:spPr>
          <a:xfrm>
            <a:off x="4572000" y="4495680"/>
            <a:ext cx="3314880" cy="112572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2067-728D-4EE9-8C9F-605C26DF2D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7" descr="Picture 3.png"/>
          <p:cNvPicPr/>
          <p:nvPr/>
        </p:nvPicPr>
        <p:blipFill>
          <a:blip r:embed="rId1"/>
          <a:stretch/>
        </p:blipFill>
        <p:spPr>
          <a:xfrm>
            <a:off x="380880" y="1066680"/>
            <a:ext cx="1181160" cy="193068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is solving a quadratic equation like solving a linear one? How is it different?(BI 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4A9C-E06F-4224-95C2-4CACF3E68A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Picture 3.png"/>
          <p:cNvPicPr/>
          <p:nvPr/>
        </p:nvPicPr>
        <p:blipFill>
          <a:blip r:embed="rId1"/>
          <a:stretch/>
        </p:blipFill>
        <p:spPr>
          <a:xfrm>
            <a:off x="457200" y="114300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know or what don’t you know about how their equations differ? (BI 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E8A0-0108-4425-BBB8-E856E1778F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Picture 3.png"/>
          <p:cNvPicPr/>
          <p:nvPr/>
        </p:nvPicPr>
        <p:blipFill>
          <a:blip r:embed="rId1"/>
          <a:stretch/>
        </p:blipFill>
        <p:spPr>
          <a:xfrm>
            <a:off x="304920" y="114300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trigonometric fun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ust graph a trig function. In what situation might you want a y-axis going from -100 to 100? (BI 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8E44-DC43-4374-9F97-61EDEC567F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DFD0-DED3-4EE4-9C5F-74CB2597CD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8AE9-9CD9-4735-8BFF-4486FD3E9B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577F-7AE9-406D-BACA-AEE61121CF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4D80-979C-4BC3-A6BD-C2ECD495D5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25C5-D47F-4B9C-94DC-07481A4859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1066680" y="205740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one of the following tasks. Make it more 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06A5-59B0-4004-9175-2299B433DF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1041480" y="20574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(s) to consolidate that goal are essential and may inform other parts of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AE7B-6716-4049-BCA9-25F4B7C5CC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14 $5-bills. How many twonies do you need to have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61EE-F6F2-4FA8-AF97-69C2351996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3FDE-8EA8-41A8-B23B-34C16D779A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1041480" y="205740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ponses to consolidating question(s) are useful assessment for learning inform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8B3D-A45D-4CEF-B589-7D5D1C3394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914400" y="16765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need to reflect the goal, whether the lesson is a concept-building lesson or a practice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7CE9-DD46-4EFB-8F2A-1BCA136B1C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863640" y="1905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is more than just “do another one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4A4D-FC96-43C4-8047-912E32A1C8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 let’s change direction a bit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361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have been focusing on the ma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let’s focus on th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2123-66F7-47DF-B432-19038CF121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ing about differenti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90720" y="2819520"/>
            <a:ext cx="741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look at a problem we might plan to use to see how thinking about difficulties students might have could lead you to alter the problem or to differentiating the tas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1AD4-F347-40F9-9E56-34928A689D3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 this is the scenari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66680" y="182880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B7FB-6AB4-4A03-9032-66FDAF7325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Picture 1.pn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182880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72DC-4086-42C7-99B5-167E4317B7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066680" y="129528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0888-F8D4-48E9-8F5E-B2684E2CDA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corner designated for the View and Discuss between-session opportunity you took advantage o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404-1BC4-402E-9718-A42923D7F7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18288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list of a “top 5” anticipated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FE59-217F-4978-AB04-2485E873284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 at on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1828800"/>
            <a:ext cx="7417080" cy="81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look at the hand-out showing one approach to dealing with a  problem you might anticip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ggest a couple of other approaches in the other box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5AFA-CA60-4309-B1EE-5F9A788E8C4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2057400"/>
            <a:ext cx="741708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r new questions address the probl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AC08-23C9-4FF9-B721-4A14249DD23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685800" y="990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is approach might lea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18288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iating instruction, maybe offering one problem to some students and the other to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53B2-A752-419D-9D76-7CA0C8D0CF2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E381-9BD9-4468-8FC2-E3CFD7805A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to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BFB0-A9FD-40FD-8B22-F1C8714967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90720" y="259092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EC2-9DF3-451B-9FE0-596581B0C1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ny of us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-- presenting problems in bits. Maybe this is not the only or the best way,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E53A-2A8B-416E-BEFD-6477E0F886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90720" y="25909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focus 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5CF9-7D85-4568-A2E0-C9F29676B2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 ques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bout creating a linear growing pattern beginning at -10 that grew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79C7-8488-4A0C-AE88-191551F3E7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907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some of your observations and thoughts with those from other boards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EF5F-6B06-45DB-8712-A5E35AB600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E758-BFF7-4535-BBDC-BBF28E01FD0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anticipating the “problem” some grade 7-9 teachers might have with grade 11 or 12 content, we differentiated the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13F0-B1BA-4C73-8D17-1927B05D2B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 at the same instructional goal, with the anticipated student difficulty address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E4BC-AE70-4DF5-9AB8-36C36C58BA7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90720" y="25909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 at your listing of alternative Brandon/Alexis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ay have already created parallel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F2A0-E429-4558-9410-BD4169FC0CA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ll that’s miss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90720" y="25909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how to handle the class when different students work on different tasks focused on the sam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’ll address that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25F-81AD-48EA-90D2-3F0EE478F8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027A-7C88-448A-83FA-2B978CCBB0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Picture 2.pn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55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066680" y="19810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lan to ask: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The slope of a line is -2/3. Tell us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FBB4-E512-4863-8772-311BF472FF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24382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some students may need more time with positive slopes before they are ready for problems involving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D919-16BE-4CCF-9C42-3300F2888B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ing at the goal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gative slopes are not really required. Students could address the goal using either positive or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F144-1F33-499E-8DCE-BF56EB8286D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Picture 1.png"/>
          <p:cNvPicPr/>
          <p:nvPr/>
        </p:nvPicPr>
        <p:blipFill>
          <a:blip r:embed="rId1"/>
          <a:stretch/>
        </p:blipFill>
        <p:spPr>
          <a:xfrm>
            <a:off x="380880" y="2057400"/>
            <a:ext cx="8367840" cy="88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reate parallel tasks, offering choices accessible to mor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4872-FD77-49C5-A3CF-F4F8F54324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990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Sticky Note Pile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066680" y="2362320"/>
            <a:ext cx="74170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try this ac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see as its val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concerns do you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B2BC-16F4-4372-96DF-05A81F32B5C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876920" y="2057400"/>
            <a:ext cx="3733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2120" y="2149560"/>
            <a:ext cx="3733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F8CD-D988-4BC2-9D18-C97663AC97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A2BD-D2BA-4478-B689-2B021E883C5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6A5C-4470-4C38-886D-B08C1F09923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eed to know to write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get that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4F68-C13D-4F07-B0BF-254D49424AB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762120" y="214956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be sure you’re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9622-2C41-458B-99CF-5D945EBF07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useful particularly for the main instructional activity in a 3-par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6CD9-4F0B-47B9-B8BB-15E3932E4A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MATCH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863640" y="2658960"/>
            <a:ext cx="7416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Picture 1.png"/>
          <p:cNvPicPr/>
          <p:nvPr/>
        </p:nvPicPr>
        <p:blipFill>
          <a:blip r:embed="rId1"/>
          <a:stretch/>
        </p:blipFill>
        <p:spPr>
          <a:xfrm>
            <a:off x="1365120" y="2222640"/>
            <a:ext cx="118116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Picture 2.png"/>
          <p:cNvPicPr/>
          <p:nvPr/>
        </p:nvPicPr>
        <p:blipFill>
          <a:blip r:embed="rId2"/>
          <a:stretch/>
        </p:blipFill>
        <p:spPr>
          <a:xfrm>
            <a:off x="1371600" y="3429000"/>
            <a:ext cx="1193760" cy="1752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Picture 3.png"/>
          <p:cNvPicPr/>
          <p:nvPr/>
        </p:nvPicPr>
        <p:blipFill>
          <a:blip r:embed="rId3"/>
          <a:stretch/>
        </p:blipFill>
        <p:spPr>
          <a:xfrm>
            <a:off x="1371600" y="4648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192" name="Slide Number Placeholder 7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747D-30F7-4961-AC7C-E5116A8FD8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e previo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85800" y="25146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evious parallel tasks could have been the Action! if slope had just been introduc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26ED-DF47-48D6-9544-95B37C4479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5146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could have been the Minds On if students already had significant experience with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1180-708E-468B-9F08-12F0B24DD9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1DB1-C40B-4986-B711-9F7A7540E03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Picture 1.pn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29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762120" y="762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 changed this from the earlier problem to have something at gra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990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professional learning protocols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17440" y="27432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those of you who have been coached or been a coach, which of these protocols is one that drew your attention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1BA2-0A1B-494B-B915-3E6BD70712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iginal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2120" y="2149560"/>
            <a:ext cx="777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d planned an activity where students would translate a series of algebraic expressions into words and vice-vers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56CA-52B6-425C-B6E4-563A9B9E86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2120" y="214956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realized that some expressions may be much more difficult for students than oth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98E7-519C-49B7-86B6-7522CDF3DE6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214956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want the more difficult ones addressed, but you need to build succ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CBE1-B6B6-4AAE-BCD7-EB2E9D92E29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62120" y="2149560"/>
            <a:ext cx="7619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ate 3 algebraic expressions using combinations of the given words. Then represent the expressions with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84A6-1C39-4FDE-A643-EA35FB17F2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62120" y="2057400"/>
            <a:ext cx="2819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1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4E86-6AD2-4405-B262-E694A21AB8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181480" y="2057400"/>
            <a:ext cx="2819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2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90720" y="2895480"/>
          <a:ext cx="2743200" cy="21034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 by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the oppo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 by 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h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 from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410080" y="2819520"/>
          <a:ext cx="2743200" cy="12794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 by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 by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 by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62120" y="19051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operation signs appeared in your algebraic expression? Why th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r other representation show those operations were happ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A16E-EE49-4F94-9C09-C1B109F0E8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always end up with two terms (parts) if you used two phra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have chosen different words to end up with the same expres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C43E-C7CB-4844-AE09-03DD1468C8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ere the advantages and disadvantages of each repres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8291-0606-4878-99F6-236EFD82758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DFBD-34EE-4DA0-852A-9F49F0FDB9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Picture 3.png"/>
          <p:cNvPicPr/>
          <p:nvPr/>
        </p:nvPicPr>
        <p:blipFill>
          <a:blip r:embed="rId1"/>
          <a:stretch/>
        </p:blipFill>
        <p:spPr>
          <a:xfrm>
            <a:off x="0" y="1494000"/>
            <a:ext cx="9144000" cy="387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articular operation the student uses is irrelevant to th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6721-8EE0-4D80-BF27-E2E96B1045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Questions from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066680" y="236232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read your Day 1 feedback and have some answers for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92AB-2E8B-41CF-A109-EE657533DC5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the choices might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762120" y="1981080"/>
            <a:ext cx="3200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343400" y="182880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DCD-1F28-41AE-9F1D-475D0DF55C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990720" y="7621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ou will notice I changed the expression to stay with grade 9 expect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A689-A3EA-46B2-9E88-76D6AA10F1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762120" y="19810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5061-2455-4A64-B35A-C7B2507537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762120" y="198108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2412-9B81-4CB1-AB46-E7F361A5D5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762120" y="1752480"/>
            <a:ext cx="7696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2016-5586-44ED-B08A-F77BAE30F9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62120" y="1752480"/>
            <a:ext cx="7696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EA93-B31F-44A1-BAA6-9D6BC56D31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762120" y="175248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think about ope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95A3-A788-4EAB-9CA3-B723C652783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0D97-BE90-439E-8808-65690D135C9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990720" y="198108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a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5105520" y="190512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79AA-222C-4089-A6C4-3ED8255CCAD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50F1-74D6-4441-AC74-10DCF337EDD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Questions from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066680" y="236232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have any other outstanding questions from Day 1, we will try to answer them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683D-8E55-4280-8819-6A372241D4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990720" y="22096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lation the graph could represe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2C97-95F5-429E-AD3A-CB92EBCBB2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1066680" y="22096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D2E6-E7E9-4ADC-9875-40B6741C95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B0E0-EA8D-4B6A-8E80-208FE83F505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990720" y="2057400"/>
            <a:ext cx="2514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4572000" y="1981080"/>
            <a:ext cx="41911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5B1A-B29C-4B86-96A4-5936638573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rmation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Picture 1.png"/>
          <p:cNvPicPr/>
          <p:nvPr/>
        </p:nvPicPr>
        <p:blipFill>
          <a:blip r:embed="rId1"/>
          <a:stretch/>
        </p:blipFill>
        <p:spPr>
          <a:xfrm>
            <a:off x="0" y="2629080"/>
            <a:ext cx="1181160" cy="160020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6AC8-C273-4534-A4CF-552066EF21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4414-7058-4676-B460-9CC45DC325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91E6-51A4-4B4B-93D1-33350A00C7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"/>
          <p:cNvSpPr/>
          <p:nvPr/>
        </p:nvSpPr>
        <p:spPr>
          <a:xfrm>
            <a:off x="1143000" y="214956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lesson is going in the right direction, but a few “tweaks” acknowledging what students have said could hel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B786-55C5-423D-B3DE-A6E6E396788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mparing open and parall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066680" y="28954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 might be more vague than parall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times an open question can replace two parallel 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99D5-F815-46A3-98DB-BAD7EE81CD4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990720" y="22096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 the parallel task where we used a positive slope vs a negative one, we could have sa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EDD8-3A04-430D-AB7A-7ABF683A80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66680" y="23623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try out any goal setting/question writing activities related to our last sess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 you share 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A875-EC99-4A03-AA05-876EAEC851C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990720" y="220968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goes through (-4,-1). Choose its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ce you’ve chosen it, tell the equation of the lin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9597-A6FA-4543-91B5-F638D75F032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3"/>
          <p:cNvSpPr/>
          <p:nvPr/>
        </p:nvSpPr>
        <p:spPr>
          <a:xfrm>
            <a:off x="1066680" y="205740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allel questions suit the action and perhaps Minds On, but not the consolidation where things are pulled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2108-3409-4284-B8FB-B596712885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 On open question related to Big Idea 5 might be: Create two linear growing patterns that you think are really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3E4F-7FA1-4572-ACC5-1122E9A209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"/>
          <p:cNvSpPr/>
          <p:nvPr/>
        </p:nvSpPr>
        <p:spPr>
          <a:xfrm>
            <a:off x="457200" y="5029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these slides, rather than using a lot of space to write goals, I slipped in a possible BI link—see if you agree– we have to acknowledge that sometimes other BIS would be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6A81-4B46-464E-939C-F83E96CF95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inequaliti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a mathematical statement where any number greater than 10 is a possible solution. (Related to BI 4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CF0E-7A53-4217-AC3D-BF543D8DAF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1066680" y="2057400"/>
            <a:ext cx="73152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quadrat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two graphs do you think are most a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F166-3A8B-4F34-9F24-CFC70B2D33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1066680" y="205740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would you open up this question (or is it open now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ll in the missing valu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143000" y="4572000"/>
          <a:ext cx="6095880" cy="11588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E826-F1B8-4807-B0A6-084D04FDB4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For th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EB97-330B-4739-A12F-CB773A1E2A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Picture 2.png"/>
          <p:cNvPicPr/>
          <p:nvPr/>
        </p:nvPicPr>
        <p:blipFill>
          <a:blip r:embed="rId1"/>
          <a:stretch/>
        </p:blipFill>
        <p:spPr>
          <a:xfrm>
            <a:off x="762120" y="1905120"/>
            <a:ext cx="11937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1066680" y="1676520"/>
            <a:ext cx="731520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3x –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raw a diagram that would help someone understand how to solve your equation. (BI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An Open A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31D4-5BE3-4137-AE61-1A209236C4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" descr="Picture 2.png"/>
          <p:cNvPicPr/>
          <p:nvPr/>
        </p:nvPicPr>
        <p:blipFill>
          <a:blip r:embed="rId1"/>
          <a:stretch/>
        </p:blipFill>
        <p:spPr>
          <a:xfrm>
            <a:off x="0" y="1143000"/>
            <a:ext cx="11937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1066680" y="2057400"/>
            <a:ext cx="7315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An Open A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3810-F83B-4252-B2BB-C885AC2089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90720" y="1905120"/>
            <a:ext cx="741672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ed at the ideas th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planning a lesson, you design backwards: focus in on a goal and plan your lesson around that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9086-B0E2-483C-A156-4A08AE1643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where your pattern starts relate to how fast it grows?  (BI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FAAF-0D1C-42DD-AB3C-34E53D22A5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Picture 2.png"/>
          <p:cNvPicPr/>
          <p:nvPr/>
        </p:nvPicPr>
        <p:blipFill>
          <a:blip r:embed="rId1"/>
          <a:stretch/>
        </p:blipFill>
        <p:spPr>
          <a:xfrm>
            <a:off x="380880" y="1219320"/>
            <a:ext cx="119376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Picture 2.png"/>
          <p:cNvPicPr/>
          <p:nvPr/>
        </p:nvPicPr>
        <p:blipFill>
          <a:blip r:embed="rId1"/>
          <a:stretch/>
        </p:blipFill>
        <p:spPr>
          <a:xfrm>
            <a:off x="304920" y="838080"/>
            <a:ext cx="1193760" cy="19051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(BI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ore Action!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B4CF-B3AA-4552-99E3-92D96BD283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Picture 2.png"/>
          <p:cNvPicPr/>
          <p:nvPr/>
        </p:nvPicPr>
        <p:blipFill>
          <a:blip r:embed="rId1"/>
          <a:stretch/>
        </p:blipFill>
        <p:spPr>
          <a:xfrm>
            <a:off x="228600" y="990720"/>
            <a:ext cx="1193760" cy="17524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1066680" y="1600200"/>
            <a:ext cx="73152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are the roots of these three equations (BI 5). What do you notice? Why does it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17x + 4 = 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37x + 6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65x + 8 = 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ore Action!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791320" y="4191120"/>
            <a:ext cx="312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Add another question that works the sa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3113-6C45-4013-9456-F17C2B078F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make up other sets of quadratic equations that have something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C698-31F3-408F-8A02-1862525D8C7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Picture 2.png"/>
          <p:cNvPicPr/>
          <p:nvPr/>
        </p:nvPicPr>
        <p:blipFill>
          <a:blip r:embed="rId1"/>
          <a:stretch/>
        </p:blipFill>
        <p:spPr>
          <a:xfrm>
            <a:off x="152280" y="838080"/>
            <a:ext cx="1193760" cy="175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trig function goes through the point (π,7). What could it be? List a bunch of possibilities. (BI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More Action!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4A2F-68B6-4426-AEA4-278BD1B25A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Picture 2.png"/>
          <p:cNvPicPr/>
          <p:nvPr/>
        </p:nvPicPr>
        <p:blipFill>
          <a:blip r:embed="rId1"/>
          <a:stretch/>
        </p:blipFill>
        <p:spPr>
          <a:xfrm>
            <a:off x="228600" y="838080"/>
            <a:ext cx="1193760" cy="175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7" descr="Picture 3.png"/>
          <p:cNvPicPr/>
          <p:nvPr/>
        </p:nvPicPr>
        <p:blipFill>
          <a:blip r:embed="rId1"/>
          <a:stretch/>
        </p:blipFill>
        <p:spPr>
          <a:xfrm>
            <a:off x="152280" y="1219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3"/>
          <p:cNvSpPr/>
          <p:nvPr/>
        </p:nvSpPr>
        <p:spPr>
          <a:xfrm>
            <a:off x="1066680" y="205740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saw many of these in our last ses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16A5-0EFE-4B37-AF4A-F28D0F367F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about the meaning of linear equations, e.g. what    4x – 2 = 9 mea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D7DB-8D5E-4A7F-B236-EB8D2FBBE4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7" descr="Picture 3.png"/>
          <p:cNvPicPr/>
          <p:nvPr/>
        </p:nvPicPr>
        <p:blipFill>
          <a:blip r:embed="rId1"/>
          <a:stretch/>
        </p:blipFill>
        <p:spPr>
          <a:xfrm>
            <a:off x="457200" y="114300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solving this equation, how do you know that the solution has to be positive? (BI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4x + 7 = -5x +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807F-FF19-4BDA-8AD0-22A86DE8FF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7" descr="Picture 3.png"/>
          <p:cNvPicPr/>
          <p:nvPr/>
        </p:nvPicPr>
        <p:blipFill>
          <a:blip r:embed="rId1"/>
          <a:stretch/>
        </p:blipFill>
        <p:spPr>
          <a:xfrm>
            <a:off x="457200" y="1066680"/>
            <a:ext cx="1181160" cy="19306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 (BI 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Or 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7110-AFFD-4CC9-AA2E-AEBDA75A930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the quadratic formula for solving quadratic eq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  <a:ea typeface="Comic Sans MS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0143-A890-43EF-8DEB-3E16B0DC28B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21:38:30Z</dcterms:created>
  <dc:creator>PSteele</dc:creator>
  <dc:description/>
  <dc:language>en-US</dc:language>
  <cp:lastModifiedBy>Marian Small</cp:lastModifiedBy>
  <dcterms:modified xsi:type="dcterms:W3CDTF">2009-10-18T23:18:00Z</dcterms:modified>
  <cp:revision>366</cp:revision>
  <dc:subject/>
  <dc:title>Slide 1</dc:title>
</cp:coreProperties>
</file>